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C7F-E0A6-4387-983D-549CE74E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F4F-0E88-443B-AF60-7449B06F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4E0-EDFC-4A34-A663-D9334691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1B2-7F53-4DEC-AD76-B0604DD1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8F5-E316-42D3-BFA9-F9143C7F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EBE-F22B-4061-9D71-B892A959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EE1-BAA9-474E-8C58-88A7D5D5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35B-DA62-40CB-9173-A2895127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E4E-99E9-4CC1-AF2A-D1A5634E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1CE-B3CD-4583-93B0-CC8BDAE3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E92-C7B4-4982-90CF-32A53B98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947-14DE-4A51-A15D-2AFE098D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AAEA-8A69-4CF1-AF9A-5DF2341B5163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OLUL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LICATIA SANAK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CONT TU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E CO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CLA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E CLA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MITERE FIS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IRE FISIER STUD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SIRE DIN CO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1:27:08Z</dcterms:created>
  <dc:creator>admin2</dc:creator>
  <dc:description/>
  <dc:language>en-US</dc:language>
  <cp:lastModifiedBy>a7med yones</cp:lastModifiedBy>
  <dcterms:modified xsi:type="dcterms:W3CDTF">2012-02-24T21:11:02Z</dcterms:modified>
  <cp:revision>4</cp:revision>
  <dc:subject/>
  <dc:title>Diapozitivul 1</dc:title>
</cp:coreProperties>
</file>